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EAC-7749-41B4-9F16-C862C9F3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6CF-5C79-432B-95FB-3EDA5441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11E-AA68-4D83-B553-B4793D96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1BF-C1F8-4156-BB7F-671DF3DC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C0C1-4667-49C4-A874-50D008B1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3EF0-A58D-401E-8A6C-129CD0E2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1EE9-DA49-4901-92A0-EF620427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9749-F276-4D87-8F37-198B2F64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E248-51F4-45AB-A880-8790C265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8E7E-CFB9-4DBE-9A5C-900AC525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356C-B3F1-4B7C-9419-0AF4D03E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305-B215-4CE2-93A7-C0F04A92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42FE-8B20-4D77-BD7B-A13CE8E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C5C0-E68E-4B8C-AD37-CD4338B2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8059-EE2D-49BF-87A2-625A7410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BFF0-3675-4489-88EE-C435EFDF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321B-23CD-44A0-97BE-437743C8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FCE-2517-4112-B312-9EAC1684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979-2A94-41C0-9117-5CFC9351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81E-51D0-4A2F-9C66-C7814917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2BD-51CA-4DA1-ACB0-8AF64989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55D-5525-42E3-BA6E-065462A9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109-9FB1-4E64-848B-4744065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070-DCAD-4A28-8FFC-178FBD0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EDBA-140E-4C94-B14E-16AE419C5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FC0D-F4AB-4639-83F3-39D83EE63574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5867280" cy="55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ВИТАМИН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РАХИ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I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С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br>
              <a:rPr sz="4400"/>
            </a:b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Про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др Биља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Вулетић</a:t>
            </a:r>
            <a:br>
              <a:rPr sz="3200"/>
            </a:br>
            <a:r>
              <a:rPr b="0" lang="sr-RS" sz="2400" spc="-1" strike="noStrike">
                <a:solidFill>
                  <a:srgbClr val="061c62"/>
                </a:solidFill>
                <a:latin typeface="Cooper Bold YU"/>
              </a:rPr>
              <a:t>Педијатријска</a:t>
            </a:r>
            <a:r>
              <a:rPr b="0" lang="sl-SI" sz="2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2400" spc="-1" strike="noStrike">
                <a:solidFill>
                  <a:srgbClr val="061c62"/>
                </a:solidFill>
                <a:latin typeface="Cooper Bold YU"/>
              </a:rPr>
              <a:t>клиника</a:t>
            </a:r>
            <a:r>
              <a:rPr b="0" lang="sl-SI" sz="2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2400" spc="-1" strike="noStrike">
                <a:solidFill>
                  <a:srgbClr val="061c62"/>
                </a:solidFill>
                <a:latin typeface="Cooper Bold YU"/>
              </a:rPr>
              <a:t>Крагујевац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1371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20200"/>
            <a:ext cx="7772400" cy="557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РАХИТИС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БОЛЕС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АСТ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АЗВОЈА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ОБНАВЉАЊ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КОСТИЈУ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55680"/>
            <a:ext cx="77724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61c62"/>
                </a:solidFill>
                <a:uFillTx/>
                <a:latin typeface="Cooper Bold YU"/>
              </a:rPr>
              <a:t>УЗРОК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ЕДОСТАТАК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61c62"/>
                </a:solidFill>
                <a:uFillTx/>
                <a:latin typeface="Cooper Bold YU"/>
              </a:rPr>
              <a:t>ГЛАВНИ</a:t>
            </a:r>
            <a:r>
              <a:rPr b="0" lang="sl-SI" sz="4400" spc="-1" strike="noStrike" u="sng">
                <a:solidFill>
                  <a:srgbClr val="061c62"/>
                </a:solidFill>
                <a:uFillTx/>
                <a:latin typeface="Cooper Bold YU"/>
              </a:rPr>
              <a:t> </a:t>
            </a:r>
            <a:r>
              <a:rPr b="0" lang="en-US" sz="4400" spc="-1" strike="noStrike" u="sng">
                <a:solidFill>
                  <a:srgbClr val="061c62"/>
                </a:solidFill>
                <a:uFillTx/>
                <a:latin typeface="Cooper Bold YU"/>
              </a:rPr>
              <a:t>ПОРЕМЕЋАЈ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ЛОШ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МИНЕРАЛИЗАЦИЈ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        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ОСТЕОИДЕНОГ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ТКИВА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04880"/>
            <a:ext cx="7772400" cy="56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ЕДОСТАТАК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400"/>
            </a:br>
            <a:br>
              <a:rPr sz="4400"/>
            </a:br>
            <a:r>
              <a:rPr b="0" lang="en-US" sz="3200" spc="-1" strike="noStrike" u="sng">
                <a:solidFill>
                  <a:srgbClr val="061c62"/>
                </a:solidFill>
                <a:uFillTx/>
                <a:latin typeface="Cooper Bold YU"/>
              </a:rPr>
              <a:t>НЕДОВОЉНО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злагањ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ејств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рака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ра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061c62"/>
                </a:solidFill>
                <a:uFillTx/>
                <a:latin typeface="Cooper Bold YU"/>
              </a:rPr>
              <a:t>ПОРЕМЕЋАЈ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сорпциј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етаболизм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(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а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зистент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хитис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)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838080" y="-289080"/>
            <a:ext cx="9144000" cy="691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 </a:t>
            </a:r>
            <a:br>
              <a:rPr sz="4800"/>
            </a:b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ЕТИОП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TO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Г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НЕЗ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4800"/>
            </a:b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едос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а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мање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с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ц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i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П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Х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е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j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апс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п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и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р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.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лим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м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ожа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њ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бла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с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орас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вн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ст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л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л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фос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о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в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ц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ли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з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т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j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06044f06"/>
          <p:cNvPicPr/>
          <p:nvPr/>
        </p:nvPicPr>
        <p:blipFill>
          <a:blip r:embed="rId1"/>
          <a:stretch/>
        </p:blipFill>
        <p:spPr>
          <a:xfrm>
            <a:off x="181080" y="2362320"/>
            <a:ext cx="7591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77724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КЛИНИЧКЕ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МАНИФЕСТАЦИЈЕ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СКЕЛЕТ</a:t>
            </a:r>
            <a:br>
              <a:rPr sz="44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ранотабе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пу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вадратум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хитичн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ројаниц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е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у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ринатум</a:t>
            </a:r>
            <a:br>
              <a:rPr sz="3200"/>
            </a:b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ур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ар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хити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</a:t>
            </a:r>
            <a:br>
              <a:rPr sz="3200"/>
            </a:br>
            <a:r>
              <a:rPr b="1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1" lang="sl-SI" sz="3200" spc="-1" strike="noStrike">
                <a:solidFill>
                  <a:srgbClr val="061c62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арфано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уберкулум</a:t>
            </a:r>
            <a:r>
              <a:rPr b="1" lang="sl-SI" sz="3200" spc="-1" strike="noStrike">
                <a:solidFill>
                  <a:srgbClr val="061c62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5800" y="203040"/>
            <a:ext cx="9144000" cy="673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ЗУБИ</a:t>
            </a:r>
            <a:br>
              <a:rPr sz="4400"/>
            </a:br>
            <a:br>
              <a:rPr sz="4400"/>
            </a:br>
            <a:r>
              <a:rPr b="1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касни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млечн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дентиција</a:t>
            </a:r>
            <a:br>
              <a:rPr sz="3200"/>
            </a:b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тенденциј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прем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каријесу</a:t>
            </a:r>
            <a:br>
              <a:rPr sz="3200"/>
            </a:b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хиполазија</a:t>
            </a:r>
            <a:r>
              <a:rPr b="1" lang="sl-SI" sz="3200" spc="-1" strike="noStrike">
                <a:solidFill>
                  <a:srgbClr val="edf0f1"/>
                </a:solidFill>
                <a:latin typeface="Cooper Bold YU"/>
              </a:rPr>
              <a:t> 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гле</a:t>
            </a:r>
            <a:r>
              <a:rPr b="1" lang="sr-RS" sz="3200" spc="-1" strike="noStrike">
                <a:solidFill>
                  <a:srgbClr val="edf0f1"/>
                </a:solidFill>
                <a:latin typeface="Cooper Bold YU"/>
              </a:rPr>
              <a:t>ђ</a:t>
            </a:r>
            <a:r>
              <a:rPr b="1" lang="en-US" sz="3200" spc="-1" strike="noStrike">
                <a:solidFill>
                  <a:srgbClr val="edf0f1"/>
                </a:solidFill>
                <a:latin typeface="Cooper Bold YU"/>
              </a:rPr>
              <a:t>и</a:t>
            </a: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МИШИЋИ</a:t>
            </a:r>
            <a:br>
              <a:rPr sz="44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ипотонија </a:t>
            </a:r>
            <a:br>
              <a:rPr sz="3200"/>
            </a:b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06044F07"/>
          <p:cNvPicPr/>
          <p:nvPr/>
        </p:nvPicPr>
        <p:blipFill>
          <a:blip r:embed="rId1"/>
          <a:stretch/>
        </p:blipFill>
        <p:spPr>
          <a:xfrm>
            <a:off x="2438280" y="1066680"/>
            <a:ext cx="3633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06044F09"/>
          <p:cNvPicPr/>
          <p:nvPr/>
        </p:nvPicPr>
        <p:blipFill>
          <a:blip r:embed="rId1"/>
          <a:stretch/>
        </p:blipFill>
        <p:spPr>
          <a:xfrm>
            <a:off x="1676520" y="1600200"/>
            <a:ext cx="5257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79524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ИЈАГНОЗА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АНАМНЕЗ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КЛИНИЧКИ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АЛАЗ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БИОХЕМИЈА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ТГ</a:t>
            </a: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1677960"/>
            <a:ext cx="7772400" cy="35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ИЗВОР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КОЖА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ХРАНА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372680"/>
            <a:ext cx="7772400" cy="44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БИОХЕМИЈА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ерум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ерум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лкалн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фосфата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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алциур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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фосфатур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</a:t>
            </a:r>
            <a:br>
              <a:rPr sz="3200"/>
            </a:b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76320" y="659880"/>
            <a:ext cx="86378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RTG </a:t>
            </a:r>
            <a:endParaRPr b="0" lang="en-US" sz="48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0" name="Picture 3" descr="06044f08a"/>
          <p:cNvPicPr/>
          <p:nvPr/>
        </p:nvPicPr>
        <p:blipFill>
          <a:blip r:embed="rId1"/>
          <a:stretch/>
        </p:blipFill>
        <p:spPr>
          <a:xfrm>
            <a:off x="380880" y="2438280"/>
            <a:ext cx="1492200" cy="3962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06044F08B"/>
          <p:cNvPicPr/>
          <p:nvPr/>
        </p:nvPicPr>
        <p:blipFill>
          <a:blip r:embed="rId2"/>
          <a:stretch/>
        </p:blipFill>
        <p:spPr>
          <a:xfrm>
            <a:off x="2057400" y="2133720"/>
            <a:ext cx="1682640" cy="42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06044F08C"/>
          <p:cNvPicPr/>
          <p:nvPr/>
        </p:nvPicPr>
        <p:blipFill>
          <a:blip r:embed="rId3"/>
          <a:stretch/>
        </p:blipFill>
        <p:spPr>
          <a:xfrm>
            <a:off x="3962520" y="1905120"/>
            <a:ext cx="1303200" cy="449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6044F08D"/>
          <p:cNvPicPr/>
          <p:nvPr/>
        </p:nvPicPr>
        <p:blipFill>
          <a:blip r:embed="rId4"/>
          <a:stretch/>
        </p:blipFill>
        <p:spPr>
          <a:xfrm>
            <a:off x="5410080" y="2133720"/>
            <a:ext cx="1954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8082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ИФЕРЕНЦИЈАЛ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ИЈАГНОЗА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идроцефалу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теогенези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мперфекта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корбу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ондродистрофија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енетск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нова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112860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ТЕРАПИЈА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а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2000-50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е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с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рекц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огрешн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схране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ртопедск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лечење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491760"/>
            <a:ext cx="7772400" cy="545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АЛКАЛ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ФОСФА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АДУ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ТГ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РОМЕН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ДЉИВЕ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2-3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НЕД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ЉЕ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914400"/>
            <a:ext cx="7772400" cy="533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ПРЕВЕНЦИЈА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4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400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невно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4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рематуруси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 2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оди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400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.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3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один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400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РАВИЛ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ИСХРАНА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69339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             </a:t>
            </a:r>
            <a:br>
              <a:rPr sz="4800"/>
            </a:b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КОЖА</a:t>
            </a:r>
            <a:br>
              <a:rPr sz="4800"/>
            </a:br>
            <a:br>
              <a:rPr sz="48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 </a:t>
            </a: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7 –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ЕХИ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Х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Л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СТ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sr-RS" sz="4400" spc="-1" strike="noStrike">
                <a:solidFill>
                  <a:srgbClr val="061c62"/>
                </a:solidFill>
                <a:latin typeface="Cooper Bold YU"/>
              </a:rPr>
              <a:t>РОЛ</a:t>
            </a: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1752120"/>
            <a:ext cx="7772400" cy="38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ХРА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 </a:t>
            </a:r>
            <a:br>
              <a:rPr sz="4800"/>
            </a:br>
            <a:br>
              <a:rPr sz="48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БИЉНОГ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ПОРЕКЛ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    </a:t>
            </a: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орск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лг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ечурке</a:t>
            </a:r>
            <a:br>
              <a:rPr sz="3200"/>
            </a:b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81240" y="837720"/>
            <a:ext cx="876276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ЖИВОТИЊСКОГ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ПОРЕКЛА</a:t>
            </a:r>
            <a:br>
              <a:rPr sz="4800"/>
            </a:br>
            <a:br>
              <a:rPr sz="48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ибљ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љ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8100-300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/1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(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адусМорхуа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жуманац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50-4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уман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ек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0,3-1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/1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рављ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леко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0,3-4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2"/>
                <a:ea typeface="Wingdings 2"/>
              </a:rPr>
              <a:t>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те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8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./100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р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52280" y="276120"/>
            <a:ext cx="8229600" cy="642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БИОХЕМИЈ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</a:t>
            </a:r>
            <a:br>
              <a:rPr sz="48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жа</a:t>
            </a:r>
            <a:br>
              <a:rPr sz="3600"/>
            </a:b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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250-312 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  <a:ea typeface="Times New Roman"/>
              </a:rPr>
              <a:t>µ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 baseline="-25000">
                <a:solidFill>
                  <a:srgbClr val="061c62"/>
                </a:solidFill>
                <a:latin typeface="Cooper Bold YU"/>
              </a:rPr>
              <a:t>3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етра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25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Х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алциферол</a:t>
            </a: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брег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l-SI" sz="3200" spc="-1" strike="noStrike">
                <a:solidFill>
                  <a:srgbClr val="061c62"/>
                </a:solidFill>
                <a:latin typeface="Wingdings 3"/>
                <a:ea typeface="Wingdings 3"/>
              </a:rPr>
              <a:t>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1,25 (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Х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)</a:t>
            </a:r>
            <a:r>
              <a:rPr b="0" lang="sl-SI" sz="3200" spc="-1" strike="noStrike" baseline="-25000">
                <a:solidFill>
                  <a:srgbClr val="061c62"/>
                </a:solidFill>
                <a:latin typeface="Cooper Bold YU"/>
              </a:rPr>
              <a:t>2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олекалциферол</a:t>
            </a:r>
            <a:r>
              <a:rPr b="0" lang="sl-SI" sz="4400" spc="-1" strike="noStrike" baseline="-25000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28600" y="596520"/>
            <a:ext cx="8686800" cy="557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ФУНКЦИЈЕ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ВИТ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48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800"/>
            </a:br>
            <a:br>
              <a:rPr sz="32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ГЛАВ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УЛОГА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ГУЛАЦИЈ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ХОМЕОСТАЗЕ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АЛЦИЈУМА И ФОСФОРА 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1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рева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2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3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брези</a:t>
            </a: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762120" y="837720"/>
            <a:ext cx="9144000" cy="51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     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1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инте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сп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г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ротеин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алцију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ревни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с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а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3200"/>
            </a:b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2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о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ља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од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o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калцијума и фосфор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           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минера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иј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ју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тва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њ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ти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i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ем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јл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уб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-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пречав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деми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а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з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иј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костију</a:t>
            </a:r>
            <a:br>
              <a:rPr sz="3200"/>
            </a:b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3.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тимул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ше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e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со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р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пциј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Ц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Ф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,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Н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a¸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АК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</a:t>
            </a:r>
            <a:br>
              <a:rPr sz="3200"/>
            </a:b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           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т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у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лима</a:t>
            </a:r>
            <a:r>
              <a:rPr b="0" lang="sl-SI" sz="32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бу</a:t>
            </a:r>
            <a:r>
              <a:rPr b="0" lang="sr-RS" sz="3200" spc="-1" strike="noStrike">
                <a:solidFill>
                  <a:srgbClr val="061c62"/>
                </a:solidFill>
                <a:latin typeface="Cooper Bold YU"/>
              </a:rPr>
              <a:t>б</a:t>
            </a:r>
            <a:r>
              <a:rPr b="0" lang="en-US" sz="3200" spc="-1" strike="noStrike">
                <a:solidFill>
                  <a:srgbClr val="061c62"/>
                </a:solidFill>
                <a:latin typeface="Cooper Bold YU"/>
              </a:rPr>
              <a:t>рега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061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61c62"/>
                </a:solidFill>
                <a:latin typeface="Cooper Bold YU"/>
              </a:rPr>
              <a:t>ПОТРЕБЕ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ОДОЈЧЕ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МОР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СВАКОДНЕВНО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УНОСИ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400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и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.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ј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.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ВИТАМИНА</a:t>
            </a:r>
            <a:r>
              <a:rPr b="0" lang="sl-SI" sz="4400" spc="-1" strike="noStrike">
                <a:solidFill>
                  <a:srgbClr val="061c62"/>
                </a:solidFill>
                <a:latin typeface="Cooper Bold YU"/>
              </a:rPr>
              <a:t> </a:t>
            </a:r>
            <a:r>
              <a:rPr b="0" lang="en-US" sz="4400" spc="-1" strike="noStrike">
                <a:solidFill>
                  <a:srgbClr val="061c62"/>
                </a:solidFill>
                <a:latin typeface="Cooper Bold YU"/>
              </a:rPr>
              <a:t>Д</a:t>
            </a:r>
            <a:r>
              <a:rPr b="0" lang="sl-SI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5:32:55Z</dcterms:created>
  <dc:creator>No Name</dc:creator>
  <dc:description/>
  <dc:language>en-US</dc:language>
  <cp:lastModifiedBy>Natasa</cp:lastModifiedBy>
  <dcterms:modified xsi:type="dcterms:W3CDTF">2020-09-30T20:07:22Z</dcterms:modified>
  <cp:revision>15</cp:revision>
  <dc:subject/>
  <dc:title>VITAMIN D U ISHRANI ODOJČADI   Doc dr Biljana Vuletić  Pedijatrijska klinika Kragujevac</dc:title>
</cp:coreProperties>
</file>