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D4D2-584C-4A7C-A9BF-51653931E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AC7D-EB9B-4C33-A0CE-1E99FC4B2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134-FDE3-48D1-A21A-D519A700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CE6-DB0D-4D8B-B35D-441C9BA7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E35-150E-4FF5-8FAD-F2EEB4F6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DD5-7273-49E9-834C-8BA130E4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6D4-F386-4CE1-8799-14E8AD1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1C0-9164-4D97-B0D5-5D193C0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417-FE77-4AEF-B53D-1C8955B3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6D2-CCB7-460D-B955-F792175B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A4E-ABDD-4FB3-BEF4-FF569EF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BC6-D4FB-4661-827C-29528DC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4F1-A2C7-4F2C-BCAF-637AF0C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ED1-20AC-49C8-A640-A10954D6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4D1-FD97-4182-87F4-19E288DDB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848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652560" y="5181480"/>
            <a:ext cx="4812120" cy="7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Љ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УЛЕТИ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ДИЈАТРИЈС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ГУЈЕВАЦ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143000" y="1028880"/>
            <a:ext cx="685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ЕЋАНИ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УБИТКО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ЈЕНАТ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034720" y="2438280"/>
            <a:ext cx="5605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ж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екот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цз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рматит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судатив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теропат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вар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уб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брег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јабете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нал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ар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ИНИЧК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ИК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45200" y="2133720"/>
            <a:ext cx="744444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УК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Ћ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ШТА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Б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ДРАЖЉИВ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Е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ТЕИНЕМИЈ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УНОДЕФ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Н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5280120"/>
            <a:ext cx="8839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БОРАТОРИЈ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ЛАЗ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бум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г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е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пид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лектроли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КАЛ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СФАТ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сто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нгитудинал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55360" y="2479680"/>
            <a:ext cx="73076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ЛАЊ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ЗРО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ћ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и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јтеж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јев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2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150 –2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ен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јал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хр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гом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фар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NOREXIA 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SA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680" y="1584360"/>
            <a:ext cx="477396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СОМАТ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ОЛЕСЦЕН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АД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РАС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УШ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5: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ТПРОСЕЧ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ЛИГ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РОМАШ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ЛЕЧ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МИ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КЛО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ИЦИД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В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Н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ЛИ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РВО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ЛОУПОТРЕ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КСАТ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833000" y="990720"/>
            <a:ext cx="42894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КСТРЕМ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РШАВ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МЕНОР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СТИП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АДИКАРД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ОТЕНЗ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В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ИЈАТРИЈ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СЕС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СТЕР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УНОДЕФ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13600" y="4648320"/>
            <a:ext cx="45014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ЕРТИРЕ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ДРЕН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Н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ОВА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ИЈАК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доцраниу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А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ШИОРК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ЛЕК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елем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81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003400" y="1905120"/>
            <a:ext cx="55162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диопулмонал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цијал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47680" y="4419720"/>
            <a:ext cx="50349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800960" y="4594320"/>
            <a:ext cx="4155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ОБАЛ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75960" y="2124000"/>
            <a:ext cx="55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АР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45720" y="3206880"/>
            <a:ext cx="6022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ант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А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 %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д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98120" y="4654440"/>
            <a:ext cx="6476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ант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ВАШИОРК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60-80 %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ем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ДОВОЉ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РАЊЕНОСТ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95280" y="3051000"/>
            <a:ext cx="6492960" cy="314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СО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ТР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ЊЕНИ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ИТКО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УТРИЈЕНА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42670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419720" y="990720"/>
            <a:ext cx="434340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нич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јен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 проблеми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280" y="3657600"/>
            <a:ext cx="524844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љ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њ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л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али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ост но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пне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181840" y="4165560"/>
            <a:ext cx="35031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номал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мо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687040" y="219240"/>
            <a:ext cx="3629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ДОВОЉА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ЕМЕЋАЈ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422000" y="2076480"/>
            <a:ext cx="6590880" cy="43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ДИГЕСТ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сти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лестаз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y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олов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з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ар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АПСОРП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лија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мбл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ард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индром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дерматити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нтеропат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ЕЋА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19320" y="2946240"/>
            <a:ext cx="65325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ОРАВ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ЛНУТРИ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мбли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ар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ЗИСТ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РЕБР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РАЛИ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ОНГИР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РЕОТОКСИК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МАЊЕНИМ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БОЛИЗМОМ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667880" y="2793960"/>
            <a:ext cx="531360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НГЕНИТАЛ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ОМАЛ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Е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ПОТИРЕО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вожђа  и цин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СИХОСОЦИЈА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ПРИВ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8:13:44Z</dcterms:created>
  <dc:creator>No Name</dc:creator>
  <dc:description/>
  <dc:language>en-US</dc:language>
  <cp:lastModifiedBy>Natasa</cp:lastModifiedBy>
  <dcterms:modified xsi:type="dcterms:W3CDTF">2020-09-30T20:08:17Z</dcterms:modified>
  <cp:revision>13</cp:revision>
  <dc:subject/>
  <dc:title>PowerPoint Presentation</dc:title>
</cp:coreProperties>
</file>