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C04C-8369-4266-BD41-1F82F7E1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A34-D828-4F1C-B450-E93B413E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1E2-D86C-4B99-B108-11C34784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C40-2613-4CB0-A197-78AEEF0A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67E4-1589-49D4-9651-7CB4BD64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8D4D-CC39-441C-A0B2-781FDACA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96F-81A7-4C48-97B3-FB772FA2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C51-821D-48B0-9721-E061B01C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AB9F-C69F-4E29-BDFA-370696D8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EC32-8ACE-48E9-A05B-19AB3193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083E-A25F-4D97-987F-FD526199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ECE-0FC7-472A-AECB-6C7E4D18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0587-98FA-40BE-B1FE-465145D99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85840" y="2470320"/>
            <a:ext cx="869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ГЛУТЕНСКА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ЕНТЕРОПАТИЈ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               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ЦЕЛИЈАКИЈА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1066680" cy="14479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2669400" y="4906800"/>
            <a:ext cx="5906880" cy="581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Times New Roman"/>
              </a:rPr>
              <a:t>Проф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sr-RS" sz="3200" spc="-1" strike="noStrike">
                <a:solidFill>
                  <a:srgbClr val="ffffff"/>
                </a:solidFill>
                <a:latin typeface="Times New Roman"/>
              </a:rPr>
              <a:t>др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ffff"/>
                </a:solidFill>
                <a:latin typeface="Times New Roman"/>
              </a:rPr>
              <a:t>БИЉАНА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ffff"/>
                </a:solidFill>
                <a:latin typeface="Times New Roman"/>
              </a:rPr>
              <a:t>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01240" y="149400"/>
            <a:ext cx="919404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ПАТОЛОГ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М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X.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ПРОМЕ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ДУОДЕНУМУ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ЈЕЈУНУМ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ЦРЕВ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ЕСИЦ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ЕДОСТАЈ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ИБЕРКИНОВ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РИПТ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УБО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ЕПИТЕЛ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ЋЕЛИ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ЕСИЦ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РАТК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ЕПИТЕЛ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ЋЕ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ФУНК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ЕЗРЕ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РОПРИ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ЋЕЛИЈС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НФИЛТРАЦИЈ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РЕВЕРЗИБИЛ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biop1"/>
          <p:cNvPicPr/>
          <p:nvPr/>
        </p:nvPicPr>
        <p:blipFill>
          <a:blip r:embed="rId1"/>
          <a:srcRect l="49336" t="0" r="0" b="0"/>
          <a:stretch/>
        </p:blipFill>
        <p:spPr>
          <a:xfrm>
            <a:off x="7108920" y="533520"/>
            <a:ext cx="18828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82440" y="149400"/>
            <a:ext cx="7322040" cy="655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КЛИН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sr-CS" sz="4000" spc="-1" strike="noStrike">
                <a:solidFill>
                  <a:srgbClr val="ff0066"/>
                </a:solidFill>
                <a:latin typeface="Times New Roman"/>
              </a:rPr>
              <a:t>Ч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С</a:t>
            </a:r>
            <a:r>
              <a:rPr b="1" lang="sr-CS" sz="4000" spc="-1" strike="noStrike">
                <a:solidFill>
                  <a:srgbClr val="ff0066"/>
                </a:solidFill>
                <a:latin typeface="Times New Roman"/>
              </a:rPr>
              <a:t>ЛИ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К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ЗРАСТА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ОЛ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ЛУТЕ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-6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ЉА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С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А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ЧЕТ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ОБИЛНЕ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СТ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ЛИ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Ц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E,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КАШ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СТЕ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НУ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Ш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АВ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E,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С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С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ЛАБО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ПРЕД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ВАЊ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E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Т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Н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РБУ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ПО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ШИЋ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ШАЊ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В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286-01"/>
          <p:cNvPicPr/>
          <p:nvPr/>
        </p:nvPicPr>
        <p:blipFill>
          <a:blip r:embed="rId1"/>
          <a:stretch/>
        </p:blipFill>
        <p:spPr>
          <a:xfrm>
            <a:off x="6248520" y="457200"/>
            <a:ext cx="274320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925040" cy="5410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9" name="Text Box 11"/>
          <p:cNvSpPr/>
          <p:nvPr/>
        </p:nvSpPr>
        <p:spPr>
          <a:xfrm>
            <a:off x="1065960" y="387360"/>
            <a:ext cx="7886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ДЕНТАЛНЕ</a:t>
            </a:r>
            <a:r>
              <a:rPr b="1" lang="sr-Latn-C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ЛЕЗИЈЕ</a:t>
            </a:r>
            <a:r>
              <a:rPr b="1" lang="sr-Latn-C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И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НИЦИЈАЛ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ДИ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ИМПТ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ЕЛИЈАЧ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fS001650850500199Xgr1"/>
          <p:cNvPicPr/>
          <p:nvPr/>
        </p:nvPicPr>
        <p:blipFill>
          <a:blip r:embed="rId1"/>
          <a:stretch/>
        </p:blipFill>
        <p:spPr>
          <a:xfrm>
            <a:off x="3048120" y="685800"/>
            <a:ext cx="5790960" cy="5715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2362320" cy="2832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2g019"/>
          <p:cNvPicPr/>
          <p:nvPr/>
        </p:nvPicPr>
        <p:blipFill>
          <a:blip r:embed="rId3"/>
          <a:stretch/>
        </p:blipFill>
        <p:spPr>
          <a:xfrm>
            <a:off x="457200" y="4114800"/>
            <a:ext cx="2362320" cy="161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Text Box 7"/>
          <p:cNvSpPr/>
          <p:nvPr/>
        </p:nvSpPr>
        <p:spPr>
          <a:xfrm>
            <a:off x="-46800" y="228600"/>
            <a:ext cx="9337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КСТРАИНТЕСТИНАЛ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НИФЕСТАЦ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ЕЛИЈАК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09440" y="185760"/>
            <a:ext cx="835632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ЛАБОР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Т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sr-CS" sz="4000" spc="-1" strike="noStrike">
                <a:solidFill>
                  <a:srgbClr val="ff0066"/>
                </a:solidFill>
                <a:latin typeface="Times New Roman"/>
              </a:rPr>
              <a:t>Р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ИЈСКЕ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АН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ЛИЗ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ХИПО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МН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ЕМ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ХИПО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ЕИ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ВИШЕ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А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ЛИЈАД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г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гГ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АКТИВН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КИВ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РАНСГЛУТАМИ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З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МАСТ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ТОЛИЦ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72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.  5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СИЛОЗ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ЕС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Л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ШК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ttg-domini"/>
          <p:cNvPicPr/>
          <p:nvPr/>
        </p:nvPicPr>
        <p:blipFill>
          <a:blip r:embed="rId1"/>
          <a:stretch/>
        </p:blipFill>
        <p:spPr>
          <a:xfrm>
            <a:off x="7140600" y="4734000"/>
            <a:ext cx="1927080" cy="159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endom"/>
          <p:cNvPicPr/>
          <p:nvPr/>
        </p:nvPicPr>
        <p:blipFill>
          <a:blip r:embed="rId2"/>
          <a:srcRect l="0" t="0" r="0" b="19981"/>
          <a:stretch/>
        </p:blipFill>
        <p:spPr>
          <a:xfrm>
            <a:off x="6705720" y="838080"/>
            <a:ext cx="220968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-379440" y="157320"/>
            <a:ext cx="10006560" cy="65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                 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ДИЈАГНО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РИТЕРИЈУ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ЕВРОПСКОГ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УДРУЖЕЊ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ЕЧЈ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АСТРОЕНТЕРОЛОГИЈ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СХРАН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СПГ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АН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1970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ИНТЕРЛАКЕ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89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БУДИМПЕ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МНОРМАЛ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АВ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ЛУЗНИЦ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УОДЕНУ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ЈУНУ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О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Т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ХРАН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РЖ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УТ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ЛИНИЧ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БОЉШ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ВЛАЧЕ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В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НАКО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ЈЕТ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УТЕ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ОРМАЛИЗАЦ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ЛУЗНИ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ЈЕТ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ШТЕЋЕ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ЛУЗНИ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ЛАП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ЛИНИЧКИ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ГОРШАЊЕ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ЊЕГ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АД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 ИСХРА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АТ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УТ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-221400" y="149400"/>
            <a:ext cx="95806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МИН</a:t>
            </a:r>
            <a:r>
              <a:rPr b="1" lang="sr-CS" sz="40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МУ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M 3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ЕНТ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E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РОБИ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ПСИЈ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ДИЈАГНОСТИЧ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АВ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ЛУЗНИЦ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ЈЕ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УТ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ПОСЛ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ГОДИ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ОРМАЛ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ЛУЗНИЦ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ЉШ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ПРОВ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КАЦИЈ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ГЛУТЕНО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Ш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By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а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РАЈ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ЈЕ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ОБ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y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6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ОРМАЛ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ЛУЗ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biop1"/>
          <p:cNvPicPr/>
          <p:nvPr/>
        </p:nvPicPr>
        <p:blipFill>
          <a:blip r:embed="rId1"/>
          <a:srcRect l="49336" t="0" r="0" b="0"/>
          <a:stretch/>
        </p:blipFill>
        <p:spPr>
          <a:xfrm>
            <a:off x="7620120" y="1666800"/>
            <a:ext cx="144756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caccca"/>
          <p:cNvPicPr/>
          <p:nvPr/>
        </p:nvPicPr>
        <p:blipFill>
          <a:blip r:embed="rId1"/>
          <a:stretch/>
        </p:blipFill>
        <p:spPr>
          <a:xfrm>
            <a:off x="304920" y="1981080"/>
            <a:ext cx="3082680" cy="411480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pic>
        <p:nvPicPr>
          <p:cNvPr id="71" name="Picture 5" descr="caccca"/>
          <p:cNvPicPr/>
          <p:nvPr/>
        </p:nvPicPr>
        <p:blipFill>
          <a:blip r:embed="rId2"/>
          <a:stretch/>
        </p:blipFill>
        <p:spPr>
          <a:xfrm>
            <a:off x="4495680" y="838080"/>
            <a:ext cx="3997440" cy="533412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sp>
        <p:nvSpPr>
          <p:cNvPr id="72" name="Rectangle 6"/>
          <p:cNvSpPr/>
          <p:nvPr/>
        </p:nvSpPr>
        <p:spPr>
          <a:xfrm>
            <a:off x="723960" y="1133640"/>
            <a:ext cx="2171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T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=   1  N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922040" y="117360"/>
            <a:ext cx="458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КРИНИН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ОВ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ТО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TN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&gt;  1  NS</a:t>
            </a:r>
            <a:r>
              <a:rPr b="0" lang="it-IT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caccca"/>
          <p:cNvPicPr/>
          <p:nvPr/>
        </p:nvPicPr>
        <p:blipFill>
          <a:blip r:embed="rId1"/>
          <a:stretch/>
        </p:blipFill>
        <p:spPr>
          <a:xfrm>
            <a:off x="4232160" y="990720"/>
            <a:ext cx="3997440" cy="5333760"/>
          </a:xfrm>
          <a:prstGeom prst="rect">
            <a:avLst/>
          </a:prstGeom>
          <a:ln w="57240">
            <a:solidFill>
              <a:srgbClr val="336699"/>
            </a:solidFill>
            <a:miter/>
          </a:ln>
        </p:spPr>
      </p:pic>
      <p:sp>
        <p:nvSpPr>
          <p:cNvPr id="76" name="Rectangle 5"/>
          <p:cNvSpPr/>
          <p:nvPr/>
        </p:nvSpPr>
        <p:spPr>
          <a:xfrm>
            <a:off x="474480" y="981000"/>
            <a:ext cx="4507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КРИНИН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ОВ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ТО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80880" y="152280"/>
            <a:ext cx="8458200" cy="66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ТЕРАПИЈ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СТРОГА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ДИЈЕТА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БЕЗ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ff0066"/>
                </a:solidFill>
                <a:latin typeface="Times New Roman"/>
              </a:rPr>
              <a:t>ГЛУТЕНА</a:t>
            </a:r>
            <a:r>
              <a:rPr b="1" lang="sl-SI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ЕЛИМИНИШ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РОИЗВОД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ПШЕНИ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РАЖИ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ОВ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Д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РОИЗВОД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КУКУРУЗА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ПИРИНЧА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66"/>
                </a:solidFill>
                <a:latin typeface="Times New Roman"/>
              </a:rPr>
              <a:t>КРОМПИРА</a:t>
            </a: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АМ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ЕПАРАТ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Ф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ФОЛ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ОПТИМАЛН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ТЕЖИН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6-12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МЕСЕЦИ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БОЛЕСТ</a:t>
            </a:r>
            <a:r>
              <a:rPr b="1" lang="sl-SI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ГОРЊЕГ</a:t>
            </a:r>
            <a:r>
              <a:rPr b="1" lang="sl-SI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ДЕЛА</a:t>
            </a:r>
            <a:r>
              <a:rPr b="1" lang="sl-SI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Т</a:t>
            </a:r>
            <a:r>
              <a:rPr b="1" lang="sl-SI" sz="32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ЦРЕВА</a:t>
            </a:r>
            <a:r>
              <a:rPr b="1" lang="sl-SI" sz="32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ОЈ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А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ТЕРИШ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ХИСТОЛ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ШК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НОРМАЛНОС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ЛУЗНИЦ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РАЈ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НЕПОДН</a:t>
            </a:r>
            <a:r>
              <a:rPr b="1" lang="sl-SI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ШЉИВОСТ</a:t>
            </a:r>
            <a:r>
              <a:rPr b="1" lang="sl-SI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ГЛУТЕНА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ИЗ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ПШЕНИЧНОГ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0066"/>
                </a:solidFill>
                <a:latin typeface="Times New Roman"/>
              </a:rPr>
              <a:t>БРАШН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75600" y="1359000"/>
            <a:ext cx="730368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4400" spc="-1" strike="noStrike">
                <a:solidFill>
                  <a:srgbClr val="000000"/>
                </a:solidFill>
                <a:latin typeface="Times New Roman"/>
              </a:rPr>
              <a:t>ПРОГН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400" spc="-1" strike="noStrike">
                <a:solidFill>
                  <a:srgbClr val="000000"/>
                </a:solidFill>
                <a:latin typeface="Times New Roman"/>
              </a:rPr>
              <a:t>ДОБ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sr-RS" sz="4400" spc="-1" strike="noStrike">
                <a:solidFill>
                  <a:srgbClr val="000000"/>
                </a:solidFill>
                <a:latin typeface="Times New Roman"/>
              </a:rPr>
              <a:t>АКО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ЛАГОВ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И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ГНОС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РАВИЛНО Л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ЧИ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6095880" y="2438280"/>
            <a:ext cx="2616480" cy="4191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161720" y="380880"/>
            <a:ext cx="696168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УЧЕСТАЛО</a:t>
            </a:r>
            <a:r>
              <a:rPr b="1" lang="sr-CS" sz="4400" spc="-1" strike="noStrike">
                <a:solidFill>
                  <a:srgbClr val="ff0066"/>
                </a:solidFill>
                <a:latin typeface="Times New Roman"/>
              </a:rPr>
              <a:t>С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ГЕ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РАФСКО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УЧЈ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ТСКИ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ИНИ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ОЦ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60-80%HLA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Q2,HLA D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Q8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HLA D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ФАКТОРИ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ЕД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78480" y="297000"/>
            <a:ext cx="91998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sr-RS" sz="3600" spc="-1" strike="noStrike">
                <a:solidFill>
                  <a:srgbClr val="ff0066"/>
                </a:solidFill>
                <a:latin typeface="Times New Roman"/>
              </a:rPr>
              <a:t>ПАТОГЕН</a:t>
            </a:r>
            <a:r>
              <a:rPr b="1" lang="sl-SI" sz="3600" spc="-1" strike="noStrike">
                <a:solidFill>
                  <a:srgbClr val="ff0066"/>
                </a:solidFill>
                <a:latin typeface="Times New Roman"/>
              </a:rPr>
              <a:t>E</a:t>
            </a:r>
            <a:r>
              <a:rPr b="1" lang="sr-RS" sz="36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1" lang="sl-SI" sz="36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ГЛУТЕ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ГЛ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ЈАД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Ф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JA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ЛИЧНО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Ф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ЊЕ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РО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PAN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З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J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Н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K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П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JE T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КСИЧ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 K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K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KT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Р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Р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ТЕРОЦ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МУ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Ш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СТ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gA,Ig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ЦИ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Д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ЗРА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ЛИЧ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Т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УЖ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ФЕКЦ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РУС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Ћ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ПУСТЉИВ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91600" y="785880"/>
            <a:ext cx="884304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ПАТОФИЗ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IO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Л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Г</a:t>
            </a:r>
            <a:r>
              <a:rPr b="1" lang="sl-SI" sz="44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sr-RS" sz="4400" spc="-1" strike="noStrike">
                <a:solidFill>
                  <a:srgbClr val="ff0066"/>
                </a:solidFill>
                <a:latin typeface="Times New Roman"/>
              </a:rPr>
              <a:t>Ј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ЊЕН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КАП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ЦИТ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T A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СОРПЦИЈ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ЋАЈ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ЛИПО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ЛИЗ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ПОЈ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АЧ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ЛУ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Њ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ЦР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ЛУМЕН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ДИЈАРЕ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МАЛ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ПСОР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СТЕА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ОР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1280" y="1168560"/>
            <a:ext cx="914904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Н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МУ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РАСТ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ПРОСТАГЛ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НД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ИН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НХИ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БИР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а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ТП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з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ДЕНИ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ЊУ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П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Р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ЦИЈ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М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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УЧЕ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О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ЦРЕВ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У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МЕ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82800" y="371520"/>
            <a:ext cx="891036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ШТЕЋЕ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ЛУЗНИЦ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УОДЕНУ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ЈЕЈ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УНУ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МАЊУ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ИНТЕЗ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Г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ХОРМ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ЕКРЕТ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ОЛЕЦИСТОКИНИН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ОРЕМЕЋА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ОТОР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КТИВНОСТ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ЖЕЛУДАЧ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РЕВНО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ОРЕМЕЋА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ЕГЗОКРИ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ФУНК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АНКРЕА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biop1"/>
          <p:cNvPicPr/>
          <p:nvPr/>
        </p:nvPicPr>
        <p:blipFill>
          <a:blip r:embed="rId1"/>
          <a:srcRect l="49336" t="0" r="0" b="0"/>
          <a:stretch/>
        </p:blipFill>
        <p:spPr>
          <a:xfrm>
            <a:off x="2743200" y="990720"/>
            <a:ext cx="26668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94160" y="700200"/>
            <a:ext cx="74286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ИЗМЕЊЕНА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ФУНКЦИЈА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КЕС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СМАЊЕНА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КОНТРАК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СМАЊЕ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КОНЦЕНТРАЦИЈА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</a:rPr>
              <a:t>СОЛИ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sr-RS" sz="4800" spc="-1" strike="noStrike">
                <a:solidFill>
                  <a:srgbClr val="000000"/>
                </a:solidFill>
                <a:latin typeface="Times New Roman"/>
              </a:rPr>
              <a:t>СТЕАТОРЕЈ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41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6320" y="457200"/>
            <a:ext cx="898344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ЋЕН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АКТИВНОСТ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ЕНЗИМ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ОШТЕ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ИХ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МИКРО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ЕСИЦ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ЕНТЕР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ИСАХ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ИДАЗ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Е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ИДАЗЕ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ТЕЖИН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КЛИН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ЧК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СЛИК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ЗАВИС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И ОД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АШИРЕНОСТ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ОШТЕЋ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Њ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ЛУЗНИЦ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УЖ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ЊЕГОВ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НТЕНЗИТ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УОДЕНУМ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УН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М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8T10:20:34Z</dcterms:created>
  <dc:creator>No Name</dc:creator>
  <dc:description/>
  <dc:language>en-US</dc:language>
  <cp:lastModifiedBy>Natasa</cp:lastModifiedBy>
  <dcterms:modified xsi:type="dcterms:W3CDTF">2020-09-30T20:08:46Z</dcterms:modified>
  <cp:revision>55</cp:revision>
  <dc:subject/>
  <dc:title>PowerPoint Presentation</dc:title>
</cp:coreProperties>
</file>