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487-0083-4523-8052-4AD5A2B3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8DB-FB8F-44EA-96EA-ED9ADE3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7F3-7565-4430-802B-8DB42BD6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0BB-302A-43F6-94BA-B25FEA6C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039-5107-4B5E-82BB-294F4DE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360-A076-43FB-8135-88BFE56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6D9-0163-4390-93D0-AC920B58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A53-D2FA-4F24-9835-DE490EB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7FA-7DF3-4033-928B-EB7A513E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1F7-BD22-4CD0-839A-AF86B05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665-9865-4982-8189-4AA87D16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499-2337-44FC-8C88-5C2EC8C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90D4-0605-495E-8BBF-038BAE32C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7760" y="1155600"/>
            <a:ext cx="8751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МФЛА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M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ОРНЕ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Т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Е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B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ЛОГ</a:t>
            </a:r>
            <a:r>
              <a:rPr b="1" lang="sr-Latn-C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ВА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.K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УЛЦЕР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ЗНИ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107520" y="5769000"/>
            <a:ext cx="563400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4640" y="870120"/>
            <a:ext cx="85644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ИП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T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  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СТРУ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В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ФОРАТИВ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–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ИСТУЛИЗИРАЈУЋ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41000" y="460440"/>
            <a:ext cx="84099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ИЈАГНО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Т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T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G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C.)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ГОРЊА ЕНДОСКОП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4080" y="431640"/>
            <a:ext cx="910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ЕРА</a:t>
            </a:r>
            <a:r>
              <a:rPr b="1" lang="sr-RS" sz="4800" spc="-1" strike="noStrike">
                <a:solidFill>
                  <a:srgbClr val="60c99c"/>
                </a:solidFill>
                <a:latin typeface="Times New Roman"/>
              </a:rPr>
              <a:t>ПИ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ЛЕМЕНТАР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ХРА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ИЈЕТ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ТН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РТИКОСТЕРОИД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МЕСАЛА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АНТИМИКРОБ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КОВ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НОСУПРЕСИВН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(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.)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936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6000" y="152280"/>
            <a:ext cx="880380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I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РОН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КОЛИТИС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1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код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н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5:1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 на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99"/>
                </a:solidFill>
                <a:latin typeface="Times New Roman"/>
              </a:rPr>
              <a:t>пад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УТОИМУ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6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Г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РОКТ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РЕКТУМ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ИГМА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ЕВОСТРА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КОЛИТ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20%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С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ЛОВЕ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БЕЛОГ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ЦРЕ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УЛЦЕРОЗНИ</a:t>
            </a:r>
            <a:r>
              <a:rPr b="1" lang="sl-SI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99"/>
                </a:solidFill>
                <a:latin typeface="Times New Roman"/>
              </a:rPr>
              <a:t>ПАНКОЛИТ</a:t>
            </a:r>
            <a:r>
              <a:rPr b="1" lang="sr-CS" sz="3600" spc="-1" strike="noStrike">
                <a:solidFill>
                  <a:srgbClr val="000099"/>
                </a:solidFill>
                <a:latin typeface="Times New Roman"/>
              </a:rPr>
              <a:t>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8487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ЕГМЕ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ЦРЕВ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АТА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УЛЦЕРОЗНИ</a:t>
            </a:r>
            <a:br>
              <a:rPr sz="4800"/>
            </a:b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ЛИТИ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ДЕБЕЛО</a:t>
            </a:r>
            <a:r>
              <a:rPr b="1" lang="sr-Latn-C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ff0066"/>
                </a:solidFill>
                <a:latin typeface="Times New Roman"/>
              </a:rPr>
              <a:t>ЦРЕВО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2800" y="100080"/>
            <a:ext cx="86022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БОЛЕСТ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СЛУЗОК</a:t>
            </a:r>
            <a:r>
              <a:rPr b="1" lang="sl-SI" sz="4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cc99"/>
                </a:solidFill>
                <a:latin typeface="Times New Roman"/>
              </a:rPr>
              <a:t>Ж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ЛИН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Ч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ДИЈАРЕЈ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ЕГАТИВНА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ПР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УЛТ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РВАВО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ЛУЗАВЕ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ДИЈАГНОЗА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Л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НОСК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П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ТЕРАП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ОРТИКОСТЕРОИД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ИМУ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ОПЕР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ИЗ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</a:rPr>
              <a:t>Карцином</a:t>
            </a: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99"/>
                </a:solidFill>
                <a:latin typeface="Times New Roman"/>
              </a:rPr>
              <a:t>дебелог цре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176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8305920" cy="569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31244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Ц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ИМПТО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ЛЦЕРОЗНИ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ЛИТ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ијаре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рбух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т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кор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ве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ктално</a:t>
                      </a: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крвар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ч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sr-RS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ет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норекс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лага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убитак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мер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астој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њ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чешће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јако</a:t>
                      </a:r>
                      <a:r>
                        <a:rPr b="1" lang="sl-SI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раж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65"/>
          <p:cNvSpPr/>
          <p:nvPr/>
        </p:nvSpPr>
        <p:spPr>
          <a:xfrm>
            <a:off x="-85320" y="258840"/>
            <a:ext cx="9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ИФ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Д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УЛЦЕРОЗНОГ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ОЛИТИСА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18040" y="279360"/>
            <a:ext cx="868428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ЦИДЕНЦ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0-15/100 000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ТАНОВНИ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ЕС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ОЖИ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ЋЕ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ОЈНИ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Л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J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0120" y="231840"/>
            <a:ext cx="89150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АТОГЕ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1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Ј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(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упресо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и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Ly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б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2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ИПЕРП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МАБИЛНОС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MEM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РАНЕ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3.)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УНК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О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53320" y="144360"/>
            <a:ext cx="74167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М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РОН</a:t>
            </a:r>
            <a:r>
              <a:rPr b="1" lang="sl-SI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МУНОЛОШК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УНОЛОШК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ИРАН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ЕУТРОФИЛ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ЕС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ЛАМ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КТИВ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АКРОФ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ТИМУЛАЦ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СИНТЕЗЕ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МФ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ИТОК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АРМАБИЛИТЕ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КСПРЕСИЈ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АДХЕСИОНИХ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МОЛЕКУ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ПОВШИН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ТЕРОЦИТ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ЕНДОТЕЛА</a:t>
            </a:r>
            <a:r>
              <a:rPr b="1" lang="sl-SI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</a:rPr>
              <a:t>КАПИ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988920"/>
            <a:ext cx="7458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ОЈ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С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Г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E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ТЕ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ЗАХВ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М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. </a:t>
            </a: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K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РОН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99ff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УОДЕН</a:t>
            </a:r>
            <a:r>
              <a:rPr b="1" lang="sr-C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ЖЕЛУДА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АНК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Б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ЛО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РЕВ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l-SI" sz="4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45600" y="431640"/>
            <a:ext cx="871164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АСТ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НКУ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БОЛЕСТИ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ПОГ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ДУЈЕ</a:t>
            </a:r>
            <a:r>
              <a:rPr b="1" lang="sl-SI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РАН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БОГА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СЛЕЂ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Е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Т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ПЕРМАБИЛ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АЈНОВИЈ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КОНЦЕП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НФЛА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ТОРН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ФОРМА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2280" y="228600"/>
            <a:ext cx="87631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ХИСТОЛ</a:t>
            </a:r>
            <a:r>
              <a:rPr b="1" lang="sl-SI" sz="48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Ш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Е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АЗ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Ф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ЈУЋИ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Д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F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ЕКТ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СЛУЗНИЦ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ИЗНАД 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ГР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RS" sz="4400" spc="-1" strike="noStrike">
                <a:solidFill>
                  <a:srgbClr val="000099"/>
                </a:solidFill>
                <a:latin typeface="Times New Roman"/>
              </a:rPr>
              <a:t>НУЛОМ</a:t>
            </a:r>
            <a:r>
              <a:rPr b="1" lang="sl-SI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l-SI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sr-RS" sz="4400" spc="-1" strike="noStrike">
                <a:solidFill>
                  <a:srgbClr val="60c99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205740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ВИСИ 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ЗАХВАЋЕНОГ ДЕЛА ГИ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ТЕПЕНА УПАЛНОГ</a:t>
            </a:r>
            <a:r>
              <a:rPr b="1" lang="sr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ОЦЕ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РИСУТНИХ КОМПЛИКА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СРИКТУРЕ ИЛИ ФИСТУЛ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КЛИНИЧКА СЛИКА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380988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ИНТЕСТИНАЛНА</a:t>
            </a:r>
            <a:r>
              <a:rPr b="1" lang="sr-C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2174760"/>
            <a:ext cx="4116600" cy="45309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ол у трбух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рчеви,тенез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ролив и крв у столи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ишена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м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перату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лабост, малаксал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каснело коштано сазрев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овраћ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, епигастра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Фистул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коли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ен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алн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 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вагиналне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нтероуретер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ч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6200" y="1523520"/>
            <a:ext cx="5029200" cy="63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ЕКСТРАИНТЕСТИН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5320" y="2631960"/>
            <a:ext cx="4041720" cy="31593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лцерације усне дупљ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Периферни арт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ритема нодо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у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Задебљање интерфалангелних зглоб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писклер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Бубрежни каменц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амен у ж</a:t>
            </a:r>
            <a:r>
              <a:rPr b="1" lang="sr-CS" sz="20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ес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07:28:58Z</dcterms:created>
  <dc:creator>No Name</dc:creator>
  <dc:description/>
  <dc:language>en-US</dc:language>
  <cp:lastModifiedBy>Natasa</cp:lastModifiedBy>
  <dcterms:modified xsi:type="dcterms:W3CDTF">2020-09-30T20:06:53Z</dcterms:modified>
  <cp:revision>35</cp:revision>
  <dc:subject/>
  <dc:title>PowerPoint Presentation</dc:title>
</cp:coreProperties>
</file>